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1A5-90D0-4463-A385-AD027E80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E71-5AC6-4D28-AB77-EC13F2C8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9C2-8980-41E2-A6F6-A4437472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0F5-4219-4722-8276-C661CD1E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2991-D7F6-4921-84B8-39483AD9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628B-1B3D-4C74-A34A-0D18A2A9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098C-8EA9-4559-B601-AAAA5F9F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9C79-35AF-415F-A30F-C9B17255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9565-DDF8-40B8-9F7A-DE7CF6E7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EAB5-5963-4126-9296-47A5CA77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F31D-E3C6-4F66-B08E-5A6BF208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C84-C7FB-4EB8-91F4-46E408C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64D0-84B0-4211-9D5F-4AA6650B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72D6-B9C8-40D0-9EA0-636BF8AC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6C4C-9616-4D09-9AFD-B58BD3BB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7435-AB60-4F04-BECA-C062C309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F88C-5C88-4EF3-B0D7-EE2302AC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33F3D-189E-449A-8252-A8FB9675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2C73-CDA7-49B5-B3D4-B8C2EB46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44D0-C353-4F26-B29C-3AC7F7FB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85A0-57E9-4601-95F8-EC38C721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32FB1-CD38-4E96-98DA-963C8FBC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CEB-6DCB-48CA-9100-E9022D4E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E1BA-16C6-451A-A155-E5A5BD7E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A6B8-C10C-4A03-9602-1E15C670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C4AF-925F-4337-930D-766C5B29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2B225-E7BE-4B82-84B8-E30A91D1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B452-9440-4511-861F-D4A474FB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74AA8-B4AF-473E-AEAA-DC5B1A8E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F61AC-DCE0-470F-800C-5D967DFA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E4C02-06C2-4CA2-AC50-FA5D67A5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62D39-CF66-4835-83F0-6F8952C5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8FC9-DEE9-4FDC-B0D5-665401CB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2D1-3FFC-4EB6-97AA-3240B5E6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70E0F-94E3-46C7-A223-5439EDE0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65387-B35A-4C87-92EB-7F37B852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E910-D284-46B1-8937-353D4FC2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AF097-713E-4BCB-AFD7-A8F36CBB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3ABF-2515-420B-B4A5-AC47C9F9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1D83D-125D-4D6B-8DF6-5323B33B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6A96D-69C0-41FD-90D0-FF99F728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B4123-1A1B-4D69-9950-30E3DAFE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61766-0E28-4ACD-AC64-AA18BF0A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68BA3-8DBE-4DEF-A1E3-D5ED0FB8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79C-9B16-4EDC-A3DB-2B4C1608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5DC4D-1AFD-4E24-935F-6E41259E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8E67B-9A70-4668-90DF-29CDBC0C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A51C1-D063-4839-83CA-05B350C2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434BA-733D-4059-ABB5-0C9FD2BE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F5DF6-0518-4907-A8CC-5936277C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FD9F5-6408-44C6-8147-BD97E655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BFEC1-7DB0-467A-A845-9B4F9F62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E8B25-381D-4CF5-8A57-0DA3583B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3FD30-0D34-418E-950A-531554D2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162A3-80CD-4025-90B9-DAE0AA6F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A0F-497E-4783-9F08-83ED3672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70868-3286-47C2-9AB3-66997975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612F0-A929-4D9B-94BF-49D983FE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C2BBB-FB5A-434B-BC50-6474EB98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5AB99-AA95-4B55-9593-B81814F3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44734-5F45-4C0C-820D-9AF3FCFD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052A0-3DEA-46D5-A27A-927187F0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F09CF-8FE8-4F33-924A-CDA7F270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4C36A-33A3-49E8-8BBB-DAFF09FB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78BDD-B5FD-423A-A359-7DCE3438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3E36E-0DAB-4BA5-9E8F-3AAA30B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1A8-D182-4345-8A56-30949D68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6681-5A33-4C6F-96A6-89B512FD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E1526-32A3-48D6-896E-91F7A704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E6342-C83C-4128-BB2C-8B234A6B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5AD5F-77A8-4737-9358-A2068665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C05D7-0D80-4932-B989-51C76540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800AA-6279-468F-8EA9-8CBCCB2E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3F3E3-29EB-43A9-B056-392FE1B6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C856A-34AA-43FA-8407-7F3505EE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67B45-EAA4-4B10-A6FC-060B783B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2393E-D4BC-4D95-B582-901C905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69D-4603-4154-BCBE-40E80870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A306D-519D-4BE0-8BEF-5BB62A57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BE33F-5C02-4425-8C78-F73AB41A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97DE4-AECD-4D9D-A9DD-CE6C0FC2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2C27C-4F86-4D3A-A8AD-ABB2FAA1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DD0EC-C874-46F9-9137-70EBF5C3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F10-34FA-4080-89D3-AB3192DF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1534-F505-4D5E-9020-DEC7B8E62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B89F-30C1-47C8-B796-D9D591C7D05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874A-6350-426C-9CCA-6CA177E7ABB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7396-8002-4F28-AB44-57CD3B6B1CF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7FD6-3E3A-4A5F-9B0C-F3A37339261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Imag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670200" cy="557280"/>
          </a:xfrm>
          <a:prstGeom prst="rect">
            <a:avLst/>
          </a:prstGeom>
          <a:ln w="0">
            <a:noFill/>
          </a:ln>
        </p:spPr>
      </p:pic>
      <p:pic>
        <p:nvPicPr>
          <p:cNvPr id="204" name="Image 7" descr=""/>
          <p:cNvPicPr/>
          <p:nvPr/>
        </p:nvPicPr>
        <p:blipFill>
          <a:blip r:embed="rId3"/>
          <a:stretch/>
        </p:blipFill>
        <p:spPr>
          <a:xfrm>
            <a:off x="8317080" y="115920"/>
            <a:ext cx="718920" cy="64818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3591-ECDA-4CCE-8A11-03CCDAF09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 6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E87E-328B-4A6C-BC8F-61814F6A4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48000" y="667800"/>
            <a:ext cx="56880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Estrangelo Edessa"/>
              </a:rPr>
              <a:t>« La qualité des parcours et la mobilisation du public, force et enjeux des PLIE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261040" y="3483000"/>
            <a:ext cx="2378160" cy="1019160"/>
          </a:xfrm>
          <a:prstGeom prst="rect">
            <a:avLst/>
          </a:prstGeom>
          <a:ln w="0">
            <a:noFill/>
          </a:ln>
        </p:spPr>
      </p:pic>
      <p:pic>
        <p:nvPicPr>
          <p:cNvPr id="288" name="Image 10" descr=""/>
          <p:cNvPicPr/>
          <p:nvPr/>
        </p:nvPicPr>
        <p:blipFill>
          <a:blip r:embed="rId2"/>
          <a:stretch/>
        </p:blipFill>
        <p:spPr>
          <a:xfrm>
            <a:off x="5454720" y="60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289" name="ZoneTexte 6"/>
          <p:cNvSpPr/>
          <p:nvPr/>
        </p:nvSpPr>
        <p:spPr>
          <a:xfrm>
            <a:off x="5292720" y="4653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Thierry SAYM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54061"/>
                </a:solidFill>
                <a:latin typeface="Calibri"/>
              </a:rPr>
              <a:t>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"/>
          <p:cNvSpPr/>
          <p:nvPr/>
        </p:nvSpPr>
        <p:spPr>
          <a:xfrm flipH="1">
            <a:off x="4858560" y="2050920"/>
            <a:ext cx="36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Journées Techniques Europ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04/07 et 05/07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96280" cy="5462640"/>
          </a:xfrm>
          <a:prstGeom prst="rect">
            <a:avLst/>
          </a:prstGeom>
          <a:ln w="0">
            <a:noFill/>
          </a:ln>
        </p:spPr>
      </p:pic>
      <p:sp>
        <p:nvSpPr>
          <p:cNvPr id="390" name="ZoneTexte 3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613080" y="117324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4. Réussir sa période d’activité en entrepr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ZoneTexte 4"/>
          <p:cNvSpPr/>
          <p:nvPr/>
        </p:nvSpPr>
        <p:spPr>
          <a:xfrm>
            <a:off x="250920" y="184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6 engagements (C5 à C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8 et C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« Accompagnement à la prise de poste et dans l’emploi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oneTexte 5"/>
          <p:cNvSpPr/>
          <p:nvPr/>
        </p:nvSpPr>
        <p:spPr>
          <a:xfrm>
            <a:off x="971640" y="3220920"/>
            <a:ext cx="648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</a:t>
            </a: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Etre conforter dans son choix et s’y prépa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Faciliter l’intégration dans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Confirmer les objectifs de l’étape 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oneTexte 6"/>
          <p:cNvSpPr/>
          <p:nvPr/>
        </p:nvSpPr>
        <p:spPr>
          <a:xfrm>
            <a:off x="971640" y="475632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médiation fine entre l’employeur et le candidat /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sécurisation de l’intégration du nouveau salar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e 7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6" name="Image 8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7" name="Image 9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0" descr=""/>
          <p:cNvPicPr/>
          <p:nvPr/>
        </p:nvPicPr>
        <p:blipFill>
          <a:blip r:embed="rId4"/>
          <a:stretch/>
        </p:blipFill>
        <p:spPr>
          <a:xfrm>
            <a:off x="1187280" y="58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1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144720" cy="23148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2" descr=""/>
          <p:cNvPicPr/>
          <p:nvPr/>
        </p:nvPicPr>
        <p:blipFill>
          <a:blip r:embed="rId6"/>
          <a:stretch/>
        </p:blipFill>
        <p:spPr>
          <a:xfrm>
            <a:off x="1187280" y="5516640"/>
            <a:ext cx="1447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532720" cy="2576520"/>
          </a:xfrm>
          <a:prstGeom prst="rect">
            <a:avLst/>
          </a:prstGeom>
          <a:ln w="0">
            <a:noFill/>
          </a:ln>
        </p:spPr>
      </p:pic>
      <p:sp>
        <p:nvSpPr>
          <p:cNvPr id="402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32720" cy="3267000"/>
          </a:xfrm>
          <a:prstGeom prst="rect">
            <a:avLst/>
          </a:prstGeom>
          <a:ln w="0">
            <a:noFill/>
          </a:ln>
        </p:spPr>
      </p:pic>
      <p:sp>
        <p:nvSpPr>
          <p:cNvPr id="404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900000" y="1020240"/>
            <a:ext cx="9036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T5. La recherche d’actions d’insertion de formation </a:t>
            </a:r>
            <a:br>
              <a:rPr sz="2800"/>
            </a:b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et d’emplo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ZoneTexte 4"/>
          <p:cNvSpPr/>
          <p:nvPr/>
        </p:nvSpPr>
        <p:spPr>
          <a:xfrm>
            <a:off x="27000" y="2030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4 engagements (C14 à C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17 « Evaluation de l’étap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5"/>
          <p:cNvSpPr/>
          <p:nvPr/>
        </p:nvSpPr>
        <p:spPr>
          <a:xfrm>
            <a:off x="684360" y="306864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information systématique sur les off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aide à la prise de décision pour chaque é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prise en compte de sa situation en temps ré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6"/>
          <p:cNvSpPr/>
          <p:nvPr/>
        </p:nvSpPr>
        <p:spPr>
          <a:xfrm>
            <a:off x="684360" y="4653000"/>
            <a:ext cx="7272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e développement de l’autonomie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et des axes de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oopération avec les acteurs de l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Image 7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0" name="Image 10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1" name="Image 1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2" name="Image 12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3" name="Image 13" descr=""/>
          <p:cNvPicPr/>
          <p:nvPr/>
        </p:nvPicPr>
        <p:blipFill>
          <a:blip r:embed="rId5"/>
          <a:stretch/>
        </p:blipFill>
        <p:spPr>
          <a:xfrm>
            <a:off x="900000" y="5589720"/>
            <a:ext cx="142920" cy="23148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4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14292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3349800"/>
          </a:xfrm>
          <a:prstGeom prst="rect">
            <a:avLst/>
          </a:prstGeom>
          <a:ln w="0">
            <a:noFill/>
          </a:ln>
        </p:spPr>
      </p:pic>
      <p:sp>
        <p:nvSpPr>
          <p:cNvPr id="416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oneTexte 1"/>
          <p:cNvSpPr/>
          <p:nvPr/>
        </p:nvSpPr>
        <p:spPr>
          <a:xfrm>
            <a:off x="1619280" y="692280"/>
            <a:ext cx="6121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La labellisatio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Les engagement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3"/>
          <p:cNvSpPr/>
          <p:nvPr/>
        </p:nvSpPr>
        <p:spPr>
          <a:xfrm>
            <a:off x="611280" y="12747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L’évaluation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4"/>
          <p:cNvSpPr/>
          <p:nvPr/>
        </p:nvSpPr>
        <p:spPr>
          <a:xfrm>
            <a:off x="611280" y="191628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mesure de l’atteinte des objectifs lors d’entretiens spécif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u nécessaire réajustement du parcours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5"/>
          <p:cNvSpPr/>
          <p:nvPr/>
        </p:nvSpPr>
        <p:spPr>
          <a:xfrm>
            <a:off x="611280" y="285264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évaluation de la progression du parcours 2 fois pa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e maintien de l’adhésion du Participant et la coconstruction du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oneTexte 6"/>
          <p:cNvSpPr/>
          <p:nvPr/>
        </p:nvSpPr>
        <p:spPr>
          <a:xfrm>
            <a:off x="684360" y="386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L’évaluation des résultats de la fin de période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oneTexte 7"/>
          <p:cNvSpPr/>
          <p:nvPr/>
        </p:nvSpPr>
        <p:spPr>
          <a:xfrm>
            <a:off x="684360" y="450864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es compétences acquises et de l’évolution pers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définition de l’objectif prioritaire de l’étape  su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8"/>
          <p:cNvSpPr/>
          <p:nvPr/>
        </p:nvSpPr>
        <p:spPr>
          <a:xfrm>
            <a:off x="684360" y="544500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formalisation de la synthèse des acquis et axes de prog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actualisation du dossier « papier » et « informatique » du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2017 – Récapitulatifs des écarts les plus consta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03280" y="1773000"/>
            <a:ext cx="741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 retour aux prescripteurs / résultats de la phase d’accue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e la validation du projet et mise à jour de V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vantages et inconvénients des solutions propos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nformation du Participant sur le suivi pendant l’emploi/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u suivi avec l’opérateur d’étape (Formation – I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ctions mises en œuvre pour valider le proj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lèche vers la droite 1"/>
          <p:cNvSpPr/>
          <p:nvPr/>
        </p:nvSpPr>
        <p:spPr>
          <a:xfrm>
            <a:off x="395280" y="5516640"/>
            <a:ext cx="649440" cy="576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ab0d8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oneTexte 2"/>
          <p:cNvSpPr/>
          <p:nvPr/>
        </p:nvSpPr>
        <p:spPr>
          <a:xfrm>
            <a:off x="1116000" y="5375880"/>
            <a:ext cx="7129440" cy="825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rôle exigeant sur la formalisation 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s actions à mettre en lien avec les objectifs d’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Imag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29" name="Image 5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0" name="Image 5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1" name="Image 5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2" name="Image 5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222120" cy="360360"/>
          </a:xfrm>
          <a:prstGeom prst="rect">
            <a:avLst/>
          </a:prstGeom>
          <a:ln w="0">
            <a:noFill/>
          </a:ln>
        </p:spPr>
      </p:pic>
      <p:sp>
        <p:nvSpPr>
          <p:cNvPr id="433" name="Plus 18"/>
          <p:cNvSpPr/>
          <p:nvPr/>
        </p:nvSpPr>
        <p:spPr>
          <a:xfrm>
            <a:off x="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us 19"/>
          <p:cNvSpPr/>
          <p:nvPr/>
        </p:nvSpPr>
        <p:spPr>
          <a:xfrm>
            <a:off x="32400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us 20"/>
          <p:cNvSpPr/>
          <p:nvPr/>
        </p:nvSpPr>
        <p:spPr>
          <a:xfrm>
            <a:off x="611280" y="1916280"/>
            <a:ext cx="303120" cy="288720"/>
          </a:xfrm>
          <a:custGeom>
            <a:avLst/>
            <a:gdLst/>
            <a:ahLst/>
            <a:rect l="l" t="t" r="r" b="b"/>
            <a:pathLst>
              <a:path w="303212" h="288925">
                <a:moveTo>
                  <a:pt x="40191" y="110485"/>
                </a:moveTo>
                <a:lnTo>
                  <a:pt x="117628" y="110485"/>
                </a:lnTo>
                <a:lnTo>
                  <a:pt x="117628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1" y="110485"/>
                </a:lnTo>
                <a:lnTo>
                  <a:pt x="263021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8" y="250628"/>
                </a:lnTo>
                <a:lnTo>
                  <a:pt x="117628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us 21"/>
          <p:cNvSpPr/>
          <p:nvPr/>
        </p:nvSpPr>
        <p:spPr>
          <a:xfrm>
            <a:off x="395280" y="4581360"/>
            <a:ext cx="303120" cy="287640"/>
          </a:xfrm>
          <a:custGeom>
            <a:avLst/>
            <a:gdLst/>
            <a:ahLst/>
            <a:rect l="l" t="t" r="r" b="b"/>
            <a:pathLst>
              <a:path w="303212" h="287338">
                <a:moveTo>
                  <a:pt x="40191" y="109878"/>
                </a:moveTo>
                <a:lnTo>
                  <a:pt x="117815" y="109878"/>
                </a:lnTo>
                <a:lnTo>
                  <a:pt x="117815" y="38087"/>
                </a:lnTo>
                <a:lnTo>
                  <a:pt x="185397" y="38087"/>
                </a:lnTo>
                <a:lnTo>
                  <a:pt x="185397" y="109878"/>
                </a:lnTo>
                <a:lnTo>
                  <a:pt x="263021" y="109878"/>
                </a:lnTo>
                <a:lnTo>
                  <a:pt x="263021" y="177460"/>
                </a:lnTo>
                <a:lnTo>
                  <a:pt x="185397" y="177460"/>
                </a:lnTo>
                <a:lnTo>
                  <a:pt x="185397" y="249251"/>
                </a:lnTo>
                <a:lnTo>
                  <a:pt x="117815" y="249251"/>
                </a:lnTo>
                <a:lnTo>
                  <a:pt x="117815" y="177460"/>
                </a:lnTo>
                <a:lnTo>
                  <a:pt x="40191" y="177460"/>
                </a:lnTo>
                <a:lnTo>
                  <a:pt x="40191" y="109878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Image 5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222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ZoneTexte 2"/>
          <p:cNvSpPr/>
          <p:nvPr/>
        </p:nvSpPr>
        <p:spPr>
          <a:xfrm>
            <a:off x="68436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</a:t>
            </a: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3"/>
          <p:cNvSpPr/>
          <p:nvPr/>
        </p:nvSpPr>
        <p:spPr>
          <a:xfrm>
            <a:off x="755640" y="2421000"/>
            <a:ext cx="7272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tour d’information au Prescripteur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ur l’entrée du Participant non formalis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Parcours prévisionnel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 signé par le Participant en amont du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Aide au choix de l’action et accord du Participant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capitalisés dans VC en regard des propositions d’actions fa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 de la prolongation de l’étape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 d’élaboration du projet professionnel non trac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s d’arrêt ou de changement d’une 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de parcours à l’initiative du Participant non tracés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ZoneTexte 2"/>
          <p:cNvSpPr/>
          <p:nvPr/>
        </p:nvSpPr>
        <p:spPr>
          <a:xfrm>
            <a:off x="684360" y="2349360"/>
            <a:ext cx="7343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Objectifs de l’étape 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sont pas exprimées et tracées dans un compte-rendu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Justificatif de la prise d’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dans le dossier « papier » du Participant sans que la demande soit not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ndez-vous de suivi lors du 1</a:t>
            </a:r>
            <a:r>
              <a:rPr b="1" lang="fr-FR" sz="1800" spc="-1" strike="noStrike" baseline="30000">
                <a:solidFill>
                  <a:srgbClr val="254061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mois de la prise de post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sans que l’explication soit capitalis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Suivi mensuel interrompu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ans explication dans VC / sans courrier en amont de la demande d’arrêt de l’accompa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Evaluation de l’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reprend les points attendus en regard des objectifs fix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oneTexte 3"/>
          <p:cNvSpPr/>
          <p:nvPr/>
        </p:nvSpPr>
        <p:spPr>
          <a:xfrm>
            <a:off x="61128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280" y="1117440"/>
            <a:ext cx="7559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La Démarche Qualité du PLIE de P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5640" y="1765080"/>
            <a:ext cx="60483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ilotage de la Démarche Qualité de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nagement de la Direction Géné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Investissement humain et financ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Formation des Référents de Parcours PLIE (RP PL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ctualisation avec SGS-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Référentiel Qualité co-constru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Audit des différentes fonctions du P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Chef de projet dédié dans la dur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ésultats des audits de labelli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Totalité des postes de RP PLIE audit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94% de conformité en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intien du label sur 3 ans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1400040" y="24289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" descr=""/>
          <p:cNvPicPr/>
          <p:nvPr/>
        </p:nvPicPr>
        <p:blipFill>
          <a:blip r:embed="rId2"/>
          <a:stretch/>
        </p:blipFill>
        <p:spPr>
          <a:xfrm>
            <a:off x="1395360" y="273384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" descr=""/>
          <p:cNvPicPr/>
          <p:nvPr/>
        </p:nvPicPr>
        <p:blipFill>
          <a:blip r:embed="rId3"/>
          <a:stretch/>
        </p:blipFill>
        <p:spPr>
          <a:xfrm>
            <a:off x="1401840" y="33876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" descr=""/>
          <p:cNvPicPr/>
          <p:nvPr/>
        </p:nvPicPr>
        <p:blipFill>
          <a:blip r:embed="rId4"/>
          <a:stretch/>
        </p:blipFill>
        <p:spPr>
          <a:xfrm>
            <a:off x="1401840" y="368136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" descr=""/>
          <p:cNvPicPr/>
          <p:nvPr/>
        </p:nvPicPr>
        <p:blipFill>
          <a:blip r:embed="rId5"/>
          <a:stretch/>
        </p:blipFill>
        <p:spPr>
          <a:xfrm>
            <a:off x="1398600" y="2144880"/>
            <a:ext cx="108000" cy="1746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5" descr=""/>
          <p:cNvPicPr/>
          <p:nvPr/>
        </p:nvPicPr>
        <p:blipFill>
          <a:blip r:embed="rId6"/>
          <a:stretch/>
        </p:blipFill>
        <p:spPr>
          <a:xfrm>
            <a:off x="1407960" y="3957480"/>
            <a:ext cx="109800" cy="1749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5" descr=""/>
          <p:cNvPicPr/>
          <p:nvPr/>
        </p:nvPicPr>
        <p:blipFill>
          <a:blip r:embed="rId7"/>
          <a:stretch/>
        </p:blipFill>
        <p:spPr>
          <a:xfrm>
            <a:off x="1395360" y="46260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300" name="Image 5" descr=""/>
          <p:cNvPicPr/>
          <p:nvPr/>
        </p:nvPicPr>
        <p:blipFill>
          <a:blip r:embed="rId8"/>
          <a:stretch/>
        </p:blipFill>
        <p:spPr>
          <a:xfrm>
            <a:off x="1407960" y="4927680"/>
            <a:ext cx="109800" cy="174600"/>
          </a:xfrm>
          <a:prstGeom prst="rect">
            <a:avLst/>
          </a:prstGeom>
          <a:ln w="0">
            <a:noFill/>
          </a:ln>
        </p:spPr>
      </p:pic>
      <p:pic>
        <p:nvPicPr>
          <p:cNvPr id="301" name="Image 5" descr=""/>
          <p:cNvPicPr/>
          <p:nvPr/>
        </p:nvPicPr>
        <p:blipFill>
          <a:blip r:embed="rId9"/>
          <a:stretch/>
        </p:blipFill>
        <p:spPr>
          <a:xfrm>
            <a:off x="1395360" y="5205240"/>
            <a:ext cx="10944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ZoneTexte 1"/>
          <p:cNvSpPr/>
          <p:nvPr/>
        </p:nvSpPr>
        <p:spPr>
          <a:xfrm>
            <a:off x="1139760" y="1512720"/>
            <a:ext cx="7201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incipales NC et OBS issues de l’audit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a validation du projet professionnel (5 NC et 4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accompagnement à la prise de poste (4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évaluation de l’étape de parcours ( 3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e choix de l’étape  (1 NC et 3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oposition de pistes de travail pour l’appui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isibilité de la méthode et des outils utilisés pour la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nition et reprise des objectifs des étapes pour l’évaluation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Recueil des informations et rédaction des comptes rendu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tre 1"/>
          <p:cNvSpPr/>
          <p:nvPr/>
        </p:nvSpPr>
        <p:spPr>
          <a:xfrm>
            <a:off x="2050920" y="865080"/>
            <a:ext cx="59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Zones à risques de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oneTexte 3"/>
          <p:cNvSpPr/>
          <p:nvPr/>
        </p:nvSpPr>
        <p:spPr>
          <a:xfrm>
            <a:off x="1230480" y="5799240"/>
            <a:ext cx="6792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L’audit révèle-t-il bien les difficultés de mise en œuvre de l’accompagnement PLIE et se concentre-t-il sur l’essentie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5" descr=""/>
          <p:cNvPicPr/>
          <p:nvPr/>
        </p:nvPicPr>
        <p:blipFill>
          <a:blip r:embed="rId1"/>
          <a:stretch/>
        </p:blipFill>
        <p:spPr>
          <a:xfrm>
            <a:off x="1481040" y="2073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6" name="Image 5" descr=""/>
          <p:cNvPicPr/>
          <p:nvPr/>
        </p:nvPicPr>
        <p:blipFill>
          <a:blip r:embed="rId2"/>
          <a:stretch/>
        </p:blipFill>
        <p:spPr>
          <a:xfrm>
            <a:off x="1481040" y="245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7" name="Image 5" descr=""/>
          <p:cNvPicPr/>
          <p:nvPr/>
        </p:nvPicPr>
        <p:blipFill>
          <a:blip r:embed="rId3"/>
          <a:stretch/>
        </p:blipFill>
        <p:spPr>
          <a:xfrm>
            <a:off x="1481040" y="287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8" name="Image 5" descr=""/>
          <p:cNvPicPr/>
          <p:nvPr/>
        </p:nvPicPr>
        <p:blipFill>
          <a:blip r:embed="rId4"/>
          <a:stretch/>
        </p:blipFill>
        <p:spPr>
          <a:xfrm>
            <a:off x="1481040" y="32958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9" name="Image 5" descr=""/>
          <p:cNvPicPr/>
          <p:nvPr/>
        </p:nvPicPr>
        <p:blipFill>
          <a:blip r:embed="rId5"/>
          <a:stretch/>
        </p:blipFill>
        <p:spPr>
          <a:xfrm>
            <a:off x="1481040" y="43657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50" name="Image 5" descr=""/>
          <p:cNvPicPr/>
          <p:nvPr/>
        </p:nvPicPr>
        <p:blipFill>
          <a:blip r:embed="rId6"/>
          <a:stretch/>
        </p:blipFill>
        <p:spPr>
          <a:xfrm>
            <a:off x="1481040" y="479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1" name="Image 5" descr=""/>
          <p:cNvPicPr/>
          <p:nvPr/>
        </p:nvPicPr>
        <p:blipFill>
          <a:blip r:embed="rId7"/>
          <a:stretch/>
        </p:blipFill>
        <p:spPr>
          <a:xfrm>
            <a:off x="1481040" y="52214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itre 1"/>
          <p:cNvSpPr/>
          <p:nvPr/>
        </p:nvSpPr>
        <p:spPr>
          <a:xfrm>
            <a:off x="108000" y="112536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Représentants du réseau des Référents de Parcours 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3"/>
          <p:cNvSpPr/>
          <p:nvPr/>
        </p:nvSpPr>
        <p:spPr>
          <a:xfrm>
            <a:off x="779400" y="5970600"/>
            <a:ext cx="7224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Comment maintenir la participation active des RPP et la co-construction de la labellisation du service d’accompagnement PL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4"/>
          <p:cNvSpPr/>
          <p:nvPr/>
        </p:nvSpPr>
        <p:spPr>
          <a:xfrm>
            <a:off x="971640" y="1773360"/>
            <a:ext cx="6840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adrage de leur rôle au sein de la D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erlocuteurs identifiées et valorisées auprès des 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obilisés lors des réunions techniques de la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 lien étroit avec l’équipe du PLIE sur l’appui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oposition de moyens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position d’une réunion technique DQS en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ésentation en réunion grand groupe de sept.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articipation au prochain COTEC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sion dans le cadre de la révision du référenti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Image 5" descr=""/>
          <p:cNvPicPr/>
          <p:nvPr/>
        </p:nvPicPr>
        <p:blipFill>
          <a:blip r:embed="rId1"/>
          <a:stretch/>
        </p:blipFill>
        <p:spPr>
          <a:xfrm>
            <a:off x="1403280" y="2376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6" name="Image 5" descr=""/>
          <p:cNvPicPr/>
          <p:nvPr/>
        </p:nvPicPr>
        <p:blipFill>
          <a:blip r:embed="rId2"/>
          <a:stretch/>
        </p:blipFill>
        <p:spPr>
          <a:xfrm>
            <a:off x="1403280" y="2825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7" name="Image 5" descr=""/>
          <p:cNvPicPr/>
          <p:nvPr/>
        </p:nvPicPr>
        <p:blipFill>
          <a:blip r:embed="rId3"/>
          <a:stretch/>
        </p:blipFill>
        <p:spPr>
          <a:xfrm>
            <a:off x="1406520" y="3270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8" name="Image 5" descr=""/>
          <p:cNvPicPr/>
          <p:nvPr/>
        </p:nvPicPr>
        <p:blipFill>
          <a:blip r:embed="rId4"/>
          <a:stretch/>
        </p:blipFill>
        <p:spPr>
          <a:xfrm>
            <a:off x="1403280" y="42559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9" name="Image 5" descr=""/>
          <p:cNvPicPr/>
          <p:nvPr/>
        </p:nvPicPr>
        <p:blipFill>
          <a:blip r:embed="rId5"/>
          <a:stretch/>
        </p:blipFill>
        <p:spPr>
          <a:xfrm>
            <a:off x="1403280" y="47023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60" name="Image 5" descr=""/>
          <p:cNvPicPr/>
          <p:nvPr/>
        </p:nvPicPr>
        <p:blipFill>
          <a:blip r:embed="rId6"/>
          <a:stretch/>
        </p:blipFill>
        <p:spPr>
          <a:xfrm>
            <a:off x="1403280" y="51465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61" name="Image 5" descr=""/>
          <p:cNvPicPr/>
          <p:nvPr/>
        </p:nvPicPr>
        <p:blipFill>
          <a:blip r:embed="rId7"/>
          <a:stretch/>
        </p:blipFill>
        <p:spPr>
          <a:xfrm>
            <a:off x="1403280" y="560232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95280" y="112536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émoignage des Référents de Parcour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oneTexte 3"/>
          <p:cNvSpPr/>
          <p:nvPr/>
        </p:nvSpPr>
        <p:spPr>
          <a:xfrm>
            <a:off x="927000" y="1773360"/>
            <a:ext cx="688500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Acceptation du cadre de référenc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firmation des engagements cho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Lien avec la formation continue des R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Valorisation de l’appui apporté par l’équipe d’animation du PLI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intes, le travail supplémentaire et le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roximité des dates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ntre l’audit blanc et l’audit de label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Trop de points de contrôle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t </a:t>
            </a: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une mise en conformité « sans fin »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isque d’un accompagnement stéréoty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oneTexte 4"/>
          <p:cNvSpPr/>
          <p:nvPr/>
        </p:nvSpPr>
        <p:spPr>
          <a:xfrm>
            <a:off x="324000" y="1952640"/>
            <a:ext cx="3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5"/>
          <p:cNvSpPr/>
          <p:nvPr/>
        </p:nvSpPr>
        <p:spPr>
          <a:xfrm>
            <a:off x="324000" y="4221000"/>
            <a:ext cx="3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necteur droit 7"/>
          <p:cNvSpPr/>
          <p:nvPr/>
        </p:nvSpPr>
        <p:spPr>
          <a:xfrm>
            <a:off x="709560" y="1773360"/>
            <a:ext cx="0" cy="18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nnecteur droit 9"/>
          <p:cNvSpPr/>
          <p:nvPr/>
        </p:nvSpPr>
        <p:spPr>
          <a:xfrm>
            <a:off x="709560" y="4076640"/>
            <a:ext cx="0" cy="1838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oneTexte 4"/>
          <p:cNvSpPr/>
          <p:nvPr/>
        </p:nvSpPr>
        <p:spPr>
          <a:xfrm>
            <a:off x="638280" y="1851120"/>
            <a:ext cx="738972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Animation du Club Participants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connaissance de l’avis expert des personnes accompag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égration des Participants PLIE dans l’évaluation d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ccès à la prise de parole au sein des instances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grammation régulière de réunions dans l’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cription volontaire des Participant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nimation réalisée par le 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incipaux sujets de l’année 2018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’intérêt des emplois de parcours -  le binôme du RP PLIE avec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travailleur social – la formation comme accès à l’emploi durable –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financement de la formation – les partenaires utiles et de proximité –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es aides à l’emploi pour les Travailleurs Handicapés – la validation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d’un projet de reconversion – le maintien en emploi sur le premier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mois –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1" name="Image 5" descr=""/>
          <p:cNvPicPr/>
          <p:nvPr/>
        </p:nvPicPr>
        <p:blipFill>
          <a:blip r:embed="rId2"/>
          <a:stretch/>
        </p:blipFill>
        <p:spPr>
          <a:xfrm>
            <a:off x="1195560" y="2641680"/>
            <a:ext cx="107640" cy="176040"/>
          </a:xfrm>
          <a:prstGeom prst="rect">
            <a:avLst/>
          </a:prstGeom>
          <a:ln w="0">
            <a:noFill/>
          </a:ln>
        </p:spPr>
      </p:pic>
      <p:pic>
        <p:nvPicPr>
          <p:cNvPr id="472" name="Image 5" descr=""/>
          <p:cNvPicPr/>
          <p:nvPr/>
        </p:nvPicPr>
        <p:blipFill>
          <a:blip r:embed="rId3"/>
          <a:stretch/>
        </p:blipFill>
        <p:spPr>
          <a:xfrm>
            <a:off x="1195560" y="2968560"/>
            <a:ext cx="107640" cy="176400"/>
          </a:xfrm>
          <a:prstGeom prst="rect">
            <a:avLst/>
          </a:prstGeom>
          <a:ln w="0">
            <a:noFill/>
          </a:ln>
        </p:spPr>
      </p:pic>
      <p:pic>
        <p:nvPicPr>
          <p:cNvPr id="473" name="Image 5" descr=""/>
          <p:cNvPicPr/>
          <p:nvPr/>
        </p:nvPicPr>
        <p:blipFill>
          <a:blip r:embed="rId4"/>
          <a:stretch/>
        </p:blipFill>
        <p:spPr>
          <a:xfrm>
            <a:off x="1187280" y="33591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4" name="Image 5" descr=""/>
          <p:cNvPicPr/>
          <p:nvPr/>
        </p:nvPicPr>
        <p:blipFill>
          <a:blip r:embed="rId5"/>
          <a:stretch/>
        </p:blipFill>
        <p:spPr>
          <a:xfrm>
            <a:off x="1187280" y="3664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5" name="Image 5" descr=""/>
          <p:cNvPicPr/>
          <p:nvPr/>
        </p:nvPicPr>
        <p:blipFill>
          <a:blip r:embed="rId6"/>
          <a:stretch/>
        </p:blipFill>
        <p:spPr>
          <a:xfrm>
            <a:off x="1195560" y="3967200"/>
            <a:ext cx="10764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ZoneTexte 1"/>
          <p:cNvSpPr/>
          <p:nvPr/>
        </p:nvSpPr>
        <p:spPr>
          <a:xfrm>
            <a:off x="611280" y="1844640"/>
            <a:ext cx="74167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enquête de satisfaction du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ait partie du suivi de la qualité – 2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m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cerne les Participants PLIE à la sortie de l’accompa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limente une synthèse et un plan d’action le cas éché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Sa mise en œuvre en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xclusivement réalisée au télé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près d’un panel de 115 Participants PLIE de sept. à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sultat global de 85% de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points de vigilance et de correction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uffisante connaissance de l’offre de service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ragilisation de la relation lors du changement de RP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anque de coordination dans la circulation des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9" name="Image 5" descr=""/>
          <p:cNvPicPr/>
          <p:nvPr/>
        </p:nvPicPr>
        <p:blipFill>
          <a:blip r:embed="rId2"/>
          <a:stretch/>
        </p:blipFill>
        <p:spPr>
          <a:xfrm>
            <a:off x="1187280" y="26240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0" name="Image 5" descr=""/>
          <p:cNvPicPr/>
          <p:nvPr/>
        </p:nvPicPr>
        <p:blipFill>
          <a:blip r:embed="rId3"/>
          <a:stretch/>
        </p:blipFill>
        <p:spPr>
          <a:xfrm>
            <a:off x="1192320" y="2928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1" name="Image 5" descr=""/>
          <p:cNvPicPr/>
          <p:nvPr/>
        </p:nvPicPr>
        <p:blipFill>
          <a:blip r:embed="rId4"/>
          <a:stretch/>
        </p:blipFill>
        <p:spPr>
          <a:xfrm>
            <a:off x="1187280" y="3745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2" name="Image 5" descr=""/>
          <p:cNvPicPr/>
          <p:nvPr/>
        </p:nvPicPr>
        <p:blipFill>
          <a:blip r:embed="rId5"/>
          <a:stretch/>
        </p:blipFill>
        <p:spPr>
          <a:xfrm>
            <a:off x="1187280" y="4049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3" name="Image 5" descr=""/>
          <p:cNvPicPr/>
          <p:nvPr/>
        </p:nvPicPr>
        <p:blipFill>
          <a:blip r:embed="rId6"/>
          <a:stretch/>
        </p:blipFill>
        <p:spPr>
          <a:xfrm>
            <a:off x="1187280" y="43513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4" name="Image 5" descr=""/>
          <p:cNvPicPr/>
          <p:nvPr/>
        </p:nvPicPr>
        <p:blipFill>
          <a:blip r:embed="rId7"/>
          <a:stretch/>
        </p:blipFill>
        <p:spPr>
          <a:xfrm>
            <a:off x="1187280" y="521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8"/>
          <a:stretch/>
        </p:blipFill>
        <p:spPr>
          <a:xfrm>
            <a:off x="1187280" y="552600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6" name="Image 5" descr=""/>
          <p:cNvPicPr/>
          <p:nvPr/>
        </p:nvPicPr>
        <p:blipFill>
          <a:blip r:embed="rId9"/>
          <a:stretch/>
        </p:blipFill>
        <p:spPr>
          <a:xfrm>
            <a:off x="1187280" y="583560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ZoneTexte 2"/>
          <p:cNvSpPr/>
          <p:nvPr/>
        </p:nvSpPr>
        <p:spPr>
          <a:xfrm>
            <a:off x="1619280" y="1773360"/>
            <a:ext cx="58323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s évolutions de la DQS de 2019 à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dit de labellisation du 07/10 au 18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12 RPP et équipe d’animation du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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Tous les parcours PLIE entrées/sorties 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5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9" name="Image 5" descr=""/>
          <p:cNvPicPr/>
          <p:nvPr/>
        </p:nvPicPr>
        <p:blipFill>
          <a:blip r:embed="rId2"/>
          <a:stretch/>
        </p:blipFill>
        <p:spPr>
          <a:xfrm>
            <a:off x="2195640" y="30402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0" name="Image 5" descr=""/>
          <p:cNvPicPr/>
          <p:nvPr/>
        </p:nvPicPr>
        <p:blipFill>
          <a:blip r:embed="rId3"/>
          <a:stretch/>
        </p:blipFill>
        <p:spPr>
          <a:xfrm>
            <a:off x="2195640" y="3510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1" name="Image 5" descr=""/>
          <p:cNvPicPr/>
          <p:nvPr/>
        </p:nvPicPr>
        <p:blipFill>
          <a:blip r:embed="rId4"/>
          <a:stretch/>
        </p:blipFill>
        <p:spPr>
          <a:xfrm>
            <a:off x="2195640" y="3933720"/>
            <a:ext cx="108000" cy="176400"/>
          </a:xfrm>
          <a:prstGeom prst="rect">
            <a:avLst/>
          </a:prstGeom>
          <a:ln w="0">
            <a:noFill/>
          </a:ln>
        </p:spPr>
      </p:pic>
      <p:sp>
        <p:nvSpPr>
          <p:cNvPr id="492" name="Titre 1"/>
          <p:cNvSpPr/>
          <p:nvPr/>
        </p:nvSpPr>
        <p:spPr>
          <a:xfrm>
            <a:off x="1332000" y="1019160"/>
            <a:ext cx="66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Nouveau cycle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Image 5" descr=""/>
          <p:cNvPicPr/>
          <p:nvPr/>
        </p:nvPicPr>
        <p:blipFill>
          <a:blip r:embed="rId5"/>
          <a:stretch/>
        </p:blipFill>
        <p:spPr>
          <a:xfrm>
            <a:off x="2195640" y="4361040"/>
            <a:ext cx="108000" cy="176040"/>
          </a:xfrm>
          <a:prstGeom prst="rect">
            <a:avLst/>
          </a:prstGeom>
          <a:ln w="0">
            <a:noFill/>
          </a:ln>
        </p:spPr>
      </p:pic>
      <p:sp>
        <p:nvSpPr>
          <p:cNvPr id="494" name="ZoneTexte 9"/>
          <p:cNvSpPr/>
          <p:nvPr/>
        </p:nvSpPr>
        <p:spPr>
          <a:xfrm>
            <a:off x="826920" y="5605560"/>
            <a:ext cx="741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 Les enjeux de la DQS sur les prochaines années correspondent-ils à notre maturité d’usage de la DQS et à notre capacité d’investis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0" y="11779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1</a:t>
            </a:r>
            <a:r>
              <a:rPr b="0" lang="fr-FR" sz="2800" spc="-1" strike="noStrike" baseline="30000">
                <a:solidFill>
                  <a:srgbClr val="ab0d82"/>
                </a:solidFill>
                <a:latin typeface="Calibri"/>
              </a:rPr>
              <a:t>ère</a:t>
            </a: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 révision du référentiel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oneTexte 2"/>
          <p:cNvSpPr/>
          <p:nvPr/>
        </p:nvSpPr>
        <p:spPr>
          <a:xfrm>
            <a:off x="971640" y="2060640"/>
            <a:ext cx="6624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modalités de révision du référ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stitution d’un group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Lancement en novembre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ythme continu d’une journée par tri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régulier d’IGS-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inalisation de la rédaction en novemb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appui de SGS – 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vision des critères d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e en forme et actualisation des outil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lecture des plans d’actions issues du contrôl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Organisation des vague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age 5" descr=""/>
          <p:cNvPicPr/>
          <p:nvPr/>
        </p:nvPicPr>
        <p:blipFill>
          <a:blip r:embed="rId1"/>
          <a:stretch/>
        </p:blipFill>
        <p:spPr>
          <a:xfrm>
            <a:off x="1447920" y="4653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8" name="Image 5" descr=""/>
          <p:cNvPicPr/>
          <p:nvPr/>
        </p:nvPicPr>
        <p:blipFill>
          <a:blip r:embed="rId2"/>
          <a:stretch/>
        </p:blipFill>
        <p:spPr>
          <a:xfrm>
            <a:off x="1447920" y="49593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9" name="Image 5" descr=""/>
          <p:cNvPicPr/>
          <p:nvPr/>
        </p:nvPicPr>
        <p:blipFill>
          <a:blip r:embed="rId3"/>
          <a:stretch/>
        </p:blipFill>
        <p:spPr>
          <a:xfrm>
            <a:off x="1447920" y="5264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0" name="Image 5" descr=""/>
          <p:cNvPicPr/>
          <p:nvPr/>
        </p:nvPicPr>
        <p:blipFill>
          <a:blip r:embed="rId4"/>
          <a:stretch/>
        </p:blipFill>
        <p:spPr>
          <a:xfrm>
            <a:off x="1450800" y="24922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1" name="Image 5" descr=""/>
          <p:cNvPicPr/>
          <p:nvPr/>
        </p:nvPicPr>
        <p:blipFill>
          <a:blip r:embed="rId5"/>
          <a:stretch/>
        </p:blipFill>
        <p:spPr>
          <a:xfrm>
            <a:off x="1447920" y="2816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2" name="Image 5" descr=""/>
          <p:cNvPicPr/>
          <p:nvPr/>
        </p:nvPicPr>
        <p:blipFill>
          <a:blip r:embed="rId6"/>
          <a:stretch/>
        </p:blipFill>
        <p:spPr>
          <a:xfrm>
            <a:off x="1447920" y="31384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5" descr=""/>
          <p:cNvPicPr/>
          <p:nvPr/>
        </p:nvPicPr>
        <p:blipFill>
          <a:blip r:embed="rId7"/>
          <a:stretch/>
        </p:blipFill>
        <p:spPr>
          <a:xfrm>
            <a:off x="1447920" y="3456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4" name="Image 5" descr=""/>
          <p:cNvPicPr/>
          <p:nvPr/>
        </p:nvPicPr>
        <p:blipFill>
          <a:blip r:embed="rId8"/>
          <a:stretch/>
        </p:blipFill>
        <p:spPr>
          <a:xfrm>
            <a:off x="1447920" y="3772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5" name="Image 5" descr=""/>
          <p:cNvPicPr/>
          <p:nvPr/>
        </p:nvPicPr>
        <p:blipFill>
          <a:blip r:embed="rId9"/>
          <a:stretch/>
        </p:blipFill>
        <p:spPr>
          <a:xfrm>
            <a:off x="1447920" y="55706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734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2060"/>
                </a:solidFill>
                <a:latin typeface="Calibri"/>
              </a:rPr>
              <a:t>Merci!</a:t>
            </a:r>
            <a:br>
              <a:rPr sz="8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re 1"/>
          <p:cNvSpPr/>
          <p:nvPr/>
        </p:nvSpPr>
        <p:spPr>
          <a:xfrm>
            <a:off x="755640" y="1179360"/>
            <a:ext cx="7423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Thématiques du Référenti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llipse 23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24"/>
          <p:cNvSpPr/>
          <p:nvPr/>
        </p:nvSpPr>
        <p:spPr>
          <a:xfrm>
            <a:off x="611280" y="4703760"/>
            <a:ext cx="75610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Un investissement et une vigilance tout au long du parcour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lipse 36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ZoneTexte 1"/>
          <p:cNvSpPr/>
          <p:nvPr/>
        </p:nvSpPr>
        <p:spPr>
          <a:xfrm>
            <a:off x="755640" y="1052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Engagements impliquant les Référents de Par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oneTexte 2"/>
          <p:cNvSpPr/>
          <p:nvPr/>
        </p:nvSpPr>
        <p:spPr>
          <a:xfrm>
            <a:off x="1187280" y="1844640"/>
            <a:ext cx="6624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diagnostic d’ac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8 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retour d’information au prescri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2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Comité d’Accès et de Suivi « Entré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3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’élabor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4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a valid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5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information des participants en amont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8 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à la pris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9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dans l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4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e choix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5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œuvre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6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relation avec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7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’évaluation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C19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La mise en relation avec un organ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13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e Comité d’Accès et de Suivi «  Sortie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ZoneTexte 2"/>
          <p:cNvSpPr/>
          <p:nvPr/>
        </p:nvSpPr>
        <p:spPr>
          <a:xfrm>
            <a:off x="1547640" y="23493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3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laboration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8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a la prise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9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dans l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17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valuation de l’é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age 5" descr=""/>
          <p:cNvPicPr/>
          <p:nvPr/>
        </p:nvPicPr>
        <p:blipFill>
          <a:blip r:embed="rId1"/>
          <a:stretch/>
        </p:blipFill>
        <p:spPr>
          <a:xfrm>
            <a:off x="1163520" y="1996920"/>
            <a:ext cx="263520" cy="360360"/>
          </a:xfrm>
          <a:prstGeom prst="rect">
            <a:avLst/>
          </a:prstGeom>
          <a:ln w="0">
            <a:noFill/>
          </a:ln>
        </p:spPr>
      </p:pic>
      <p:pic>
        <p:nvPicPr>
          <p:cNvPr id="338" name="Image 5" descr=""/>
          <p:cNvPicPr/>
          <p:nvPr/>
        </p:nvPicPr>
        <p:blipFill>
          <a:blip r:embed="rId2"/>
          <a:stretch/>
        </p:blipFill>
        <p:spPr>
          <a:xfrm>
            <a:off x="1149480" y="4195800"/>
            <a:ext cx="263520" cy="360360"/>
          </a:xfrm>
          <a:prstGeom prst="rect">
            <a:avLst/>
          </a:prstGeom>
          <a:ln w="0">
            <a:noFill/>
          </a:ln>
        </p:spPr>
      </p:pic>
      <p:sp>
        <p:nvSpPr>
          <p:cNvPr id="339" name="Titre 1"/>
          <p:cNvSpPr/>
          <p:nvPr/>
        </p:nvSpPr>
        <p:spPr>
          <a:xfrm>
            <a:off x="395280" y="119700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Progression des engagements depuis 2016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"/>
          <p:cNvSpPr/>
          <p:nvPr/>
        </p:nvSpPr>
        <p:spPr>
          <a:xfrm>
            <a:off x="1547640" y="191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7:  + 4 engagements = 20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8"/>
          <p:cNvSpPr/>
          <p:nvPr/>
        </p:nvSpPr>
        <p:spPr>
          <a:xfrm>
            <a:off x="1547640" y="40831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8:  + 2 engagements = 22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2  </a:t>
            </a: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10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la fin de la période d’emploi 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8280" y="1193400"/>
            <a:ext cx="7848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Audit de labellisatio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60440" y="3284640"/>
            <a:ext cx="662472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Calibri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RPP en 2016 + 16 RPP en 2017 + 19 RPP en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Information auprès des RPP audités dés le mois de févr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Image 5" descr=""/>
          <p:cNvPicPr/>
          <p:nvPr/>
        </p:nvPicPr>
        <p:blipFill>
          <a:blip r:embed="rId1"/>
          <a:stretch/>
        </p:blipFill>
        <p:spPr>
          <a:xfrm>
            <a:off x="963720" y="2479680"/>
            <a:ext cx="291960" cy="469800"/>
          </a:xfrm>
          <a:prstGeom prst="rect">
            <a:avLst/>
          </a:prstGeom>
          <a:ln w="0">
            <a:noFill/>
          </a:ln>
        </p:spPr>
      </p:pic>
      <p:sp>
        <p:nvSpPr>
          <p:cNvPr id="345" name="ZoneTexte 9"/>
          <p:cNvSpPr/>
          <p:nvPr/>
        </p:nvSpPr>
        <p:spPr>
          <a:xfrm>
            <a:off x="1355760" y="232236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36 postes de Référents de Parcours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avec </a:t>
            </a: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53 sites d’implantation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sur 9 arrondissements de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oneTexte 2"/>
          <p:cNvSpPr/>
          <p:nvPr/>
        </p:nvSpPr>
        <p:spPr>
          <a:xfrm>
            <a:off x="1355760" y="4432320"/>
            <a:ext cx="68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équipe d’animation est auditée tous les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enquête de satisfaction et les interviews pour le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5" descr=""/>
          <p:cNvPicPr/>
          <p:nvPr/>
        </p:nvPicPr>
        <p:blipFill>
          <a:blip r:embed="rId2"/>
          <a:stretch/>
        </p:blipFill>
        <p:spPr>
          <a:xfrm>
            <a:off x="963720" y="3495600"/>
            <a:ext cx="291960" cy="471600"/>
          </a:xfrm>
          <a:prstGeom prst="rect">
            <a:avLst/>
          </a:prstGeom>
          <a:ln w="0">
            <a:noFill/>
          </a:ln>
        </p:spPr>
      </p:pic>
      <p:pic>
        <p:nvPicPr>
          <p:cNvPr id="348" name="Image 5" descr=""/>
          <p:cNvPicPr/>
          <p:nvPr/>
        </p:nvPicPr>
        <p:blipFill>
          <a:blip r:embed="rId3"/>
          <a:stretch/>
        </p:blipFill>
        <p:spPr>
          <a:xfrm>
            <a:off x="963720" y="4551480"/>
            <a:ext cx="29196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95560" y="969840"/>
            <a:ext cx="597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Planning de la DQS e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7"/>
          <p:cNvSpPr/>
          <p:nvPr/>
        </p:nvSpPr>
        <p:spPr>
          <a:xfrm>
            <a:off x="1022400" y="2824200"/>
            <a:ext cx="209232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Appui Technique N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8"/>
          <p:cNvSpPr/>
          <p:nvPr/>
        </p:nvSpPr>
        <p:spPr>
          <a:xfrm>
            <a:off x="3387600" y="2700360"/>
            <a:ext cx="801720" cy="580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Bl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oneTexte 9"/>
          <p:cNvSpPr/>
          <p:nvPr/>
        </p:nvSpPr>
        <p:spPr>
          <a:xfrm>
            <a:off x="6832440" y="2697120"/>
            <a:ext cx="1268640" cy="580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de Label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10"/>
          <p:cNvSpPr/>
          <p:nvPr/>
        </p:nvSpPr>
        <p:spPr>
          <a:xfrm>
            <a:off x="1781280" y="1893960"/>
            <a:ext cx="3603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11"/>
          <p:cNvSpPr/>
          <p:nvPr/>
        </p:nvSpPr>
        <p:spPr>
          <a:xfrm>
            <a:off x="3713040" y="1898640"/>
            <a:ext cx="36036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oneTexte 12"/>
          <p:cNvSpPr/>
          <p:nvPr/>
        </p:nvSpPr>
        <p:spPr>
          <a:xfrm>
            <a:off x="7292880" y="1897200"/>
            <a:ext cx="360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42"/>
          <p:cNvSpPr/>
          <p:nvPr/>
        </p:nvSpPr>
        <p:spPr>
          <a:xfrm>
            <a:off x="2316240" y="3373560"/>
            <a:ext cx="798480" cy="5806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omité T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45"/>
          <p:cNvSpPr/>
          <p:nvPr/>
        </p:nvSpPr>
        <p:spPr>
          <a:xfrm>
            <a:off x="6843600" y="3376440"/>
            <a:ext cx="125892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022400" y="4038480"/>
            <a:ext cx="7078680" cy="337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quipe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22"/>
          <p:cNvSpPr/>
          <p:nvPr/>
        </p:nvSpPr>
        <p:spPr>
          <a:xfrm>
            <a:off x="1022400" y="22906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24"/>
          <p:cNvSpPr/>
          <p:nvPr/>
        </p:nvSpPr>
        <p:spPr>
          <a:xfrm>
            <a:off x="2370240" y="228276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26"/>
          <p:cNvSpPr/>
          <p:nvPr/>
        </p:nvSpPr>
        <p:spPr>
          <a:xfrm>
            <a:off x="4302000" y="22860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Connecteur droit avec flèche 11263"/>
          <p:cNvCxnSpPr>
            <a:stCxn id="351" idx="3"/>
            <a:endCxn id="363" idx="1"/>
          </p:cNvCxnSpPr>
          <p:nvPr/>
        </p:nvCxnSpPr>
        <p:spPr>
          <a:xfrm flipV="1">
            <a:off x="4189320" y="2989080"/>
            <a:ext cx="30060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4" name="ZoneTexte 100"/>
          <p:cNvSpPr/>
          <p:nvPr/>
        </p:nvSpPr>
        <p:spPr>
          <a:xfrm>
            <a:off x="5334120" y="1922400"/>
            <a:ext cx="326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oneTexte 101"/>
          <p:cNvSpPr/>
          <p:nvPr/>
        </p:nvSpPr>
        <p:spPr>
          <a:xfrm>
            <a:off x="4489560" y="2819520"/>
            <a:ext cx="204300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ppui Technique N°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20"/>
          <p:cNvSpPr/>
          <p:nvPr/>
        </p:nvSpPr>
        <p:spPr>
          <a:xfrm>
            <a:off x="5889600" y="2290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Connecteur droit avec flèche 105"/>
          <p:cNvCxnSpPr>
            <a:stCxn id="350" idx="3"/>
            <a:endCxn id="351" idx="1"/>
          </p:cNvCxnSpPr>
          <p:nvPr/>
        </p:nvCxnSpPr>
        <p:spPr>
          <a:xfrm>
            <a:off x="3114720" y="2991960"/>
            <a:ext cx="2732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7" name="ZoneTexte 11307"/>
          <p:cNvSpPr/>
          <p:nvPr/>
        </p:nvSpPr>
        <p:spPr>
          <a:xfrm>
            <a:off x="5673600" y="3370320"/>
            <a:ext cx="115884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140"/>
          <p:cNvSpPr/>
          <p:nvPr/>
        </p:nvSpPr>
        <p:spPr>
          <a:xfrm>
            <a:off x="1022400" y="3368520"/>
            <a:ext cx="126036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20"/>
          <p:cNvSpPr/>
          <p:nvPr/>
        </p:nvSpPr>
        <p:spPr>
          <a:xfrm>
            <a:off x="7062840" y="22906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69"/>
          <p:cNvSpPr/>
          <p:nvPr/>
        </p:nvSpPr>
        <p:spPr>
          <a:xfrm>
            <a:off x="4465800" y="3368520"/>
            <a:ext cx="120780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nquête de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necteur droit avec flèche 70"/>
          <p:cNvCxnSpPr>
            <a:stCxn id="363" idx="3"/>
            <a:endCxn id="352" idx="1"/>
          </p:cNvCxnSpPr>
          <p:nvPr/>
        </p:nvCxnSpPr>
        <p:spPr>
          <a:xfrm>
            <a:off x="6532200" y="2989080"/>
            <a:ext cx="300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72" name="ZoneTexte 58"/>
          <p:cNvSpPr/>
          <p:nvPr/>
        </p:nvSpPr>
        <p:spPr>
          <a:xfrm>
            <a:off x="998640" y="4622760"/>
            <a:ext cx="72961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évolutions en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 + 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r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révision du référentiel de label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 / Participants en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ibution au sein du réseau des PLIE – Europlie /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 5" descr=""/>
          <p:cNvPicPr/>
          <p:nvPr/>
        </p:nvPicPr>
        <p:blipFill>
          <a:blip r:embed="rId1"/>
          <a:stretch/>
        </p:blipFill>
        <p:spPr>
          <a:xfrm>
            <a:off x="1587600" y="51166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5" descr=""/>
          <p:cNvPicPr/>
          <p:nvPr/>
        </p:nvPicPr>
        <p:blipFill>
          <a:blip r:embed="rId2"/>
          <a:stretch/>
        </p:blipFill>
        <p:spPr>
          <a:xfrm>
            <a:off x="1585800" y="54291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5" name="Image 5" descr=""/>
          <p:cNvPicPr/>
          <p:nvPr/>
        </p:nvPicPr>
        <p:blipFill>
          <a:blip r:embed="rId3"/>
          <a:stretch/>
        </p:blipFill>
        <p:spPr>
          <a:xfrm>
            <a:off x="1585800" y="57164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6" name="Image 5" descr=""/>
          <p:cNvPicPr/>
          <p:nvPr/>
        </p:nvPicPr>
        <p:blipFill>
          <a:blip r:embed="rId4"/>
          <a:stretch/>
        </p:blipFill>
        <p:spPr>
          <a:xfrm>
            <a:off x="1589040" y="60069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 5" descr=""/>
          <p:cNvPicPr/>
          <p:nvPr/>
        </p:nvPicPr>
        <p:blipFill>
          <a:blip r:embed="rId5"/>
          <a:stretch/>
        </p:blipFill>
        <p:spPr>
          <a:xfrm>
            <a:off x="1585800" y="634032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1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086680" cy="338472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3"/>
          <p:cNvSpPr/>
          <p:nvPr/>
        </p:nvSpPr>
        <p:spPr>
          <a:xfrm>
            <a:off x="417600" y="1125360"/>
            <a:ext cx="7848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2060"/>
                </a:solidFill>
                <a:latin typeface="Calibri"/>
              </a:rPr>
              <a:t>T3. Travail sur le projet professionn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oneTexte 4"/>
          <p:cNvSpPr/>
          <p:nvPr/>
        </p:nvSpPr>
        <p:spPr>
          <a:xfrm>
            <a:off x="468360" y="1628640"/>
            <a:ext cx="7993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2 engagements (C3 –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3 « Elaboration du Projet professionnel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oneTexte 5"/>
          <p:cNvSpPr/>
          <p:nvPr/>
        </p:nvSpPr>
        <p:spPr>
          <a:xfrm>
            <a:off x="539640" y="2492280"/>
            <a:ext cx="792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 projet professionnel validé / élaboré si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formalisation argumentée du projet profes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parcours PLIE coordonné au résultat de l’étap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oneTexte 6"/>
          <p:cNvSpPr/>
          <p:nvPr/>
        </p:nvSpPr>
        <p:spPr>
          <a:xfrm>
            <a:off x="539640" y="4292640"/>
            <a:ext cx="684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Obtenir une validation du projet en début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Proposer des solutions formation et emploi adap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 7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5" name="Image 8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6" name="Image 9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7" name="Image 10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2" descr=""/>
          <p:cNvPicPr/>
          <p:nvPr/>
        </p:nvPicPr>
        <p:blipFill>
          <a:blip r:embed="rId5"/>
          <a:stretch/>
        </p:blipFill>
        <p:spPr>
          <a:xfrm>
            <a:off x="755640" y="4869000"/>
            <a:ext cx="144360" cy="23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6:15Z</dcterms:created>
  <dc:creator>Saymard thierry</dc:creator>
  <dc:description/>
  <dc:language>en-US</dc:language>
  <cp:lastModifiedBy>Thierry SAYMARD</cp:lastModifiedBy>
  <cp:lastPrinted>2017-12-11T11:52:05Z</cp:lastPrinted>
  <dcterms:modified xsi:type="dcterms:W3CDTF">2019-07-04T04:38:30Z</dcterms:modified>
  <cp:revision>325</cp:revision>
  <dc:subject/>
  <dc:title>Page de couverture</dc:title>
</cp:coreProperties>
</file>